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4C2-0FB8-4D2A-BD4E-4A2F45B3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032-C10D-4106-8B38-310F04CC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722-8A31-4542-9824-29A924E0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CC4-8975-4BCE-AD07-7B97A33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B98-D3CE-40ED-AD8A-726679F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022-DACF-4DC1-B728-F8A92C3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560-4191-4ADF-A08E-7AB2AB0F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859-E139-41AF-81D3-27902AA1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8D9-99A9-49AE-B09E-6BF9A55A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1A-AFD1-41DA-A407-0D499676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2AA-67E5-4DFE-8B78-0D0A9E7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790-A393-4286-A358-D9BBF9B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DB21-E6A4-401F-9B18-5DEA02530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141720"/>
            <a:ext cx="2663640" cy="2520720"/>
            <a:chOff x="3203640" y="3141720"/>
            <a:chExt cx="2663640" cy="2520720"/>
          </a:xfrm>
        </p:grpSpPr>
        <p:sp>
          <p:nvSpPr>
            <p:cNvPr id="48" name=""/>
            <p:cNvSpPr/>
            <p:nvPr/>
          </p:nvSpPr>
          <p:spPr>
            <a:xfrm>
              <a:off x="3203640" y="3141720"/>
              <a:ext cx="2663640" cy="252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3790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4941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509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509720"/>
              <a:ext cx="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349360"/>
            <a:ext cx="0" cy="345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06864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distance form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5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3933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Use the formula to work out simply distance calc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1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6880" y="192420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were travelling in a trai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80km/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2600" y="296064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1 hour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23840" y="350676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2 hours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3840" y="401148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3 hours you trave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4754520"/>
            <a:ext cx="44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n you guess what the formula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5520" y="2960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1 = 8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59840" y="350676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2 = 16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0720" y="40114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0091"/>
                </a:solidFill>
                <a:latin typeface="Comic Sans MS"/>
                <a:ea typeface="Arial"/>
              </a:rPr>
              <a:t>80 x 3 = 24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544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e = Speed  x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13040" y="5445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71640" y="2421000"/>
            <a:ext cx="1801800" cy="1504800"/>
            <a:chOff x="2771640" y="2421000"/>
            <a:chExt cx="1801800" cy="1504800"/>
          </a:xfrm>
        </p:grpSpPr>
        <p:sp>
          <p:nvSpPr>
            <p:cNvPr id="107" name=""/>
            <p:cNvSpPr/>
            <p:nvPr/>
          </p:nvSpPr>
          <p:spPr>
            <a:xfrm>
              <a:off x="2771640" y="2421000"/>
              <a:ext cx="1801800" cy="1504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2520" y="3493440"/>
              <a:ext cx="34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54200" y="2808360"/>
              <a:ext cx="43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3760" y="3493440"/>
              <a:ext cx="33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9400" y="3237480"/>
              <a:ext cx="925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8600" y="3237480"/>
              <a:ext cx="0" cy="68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9840" y="191628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were travelling in a train at a stead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80km/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292640"/>
            <a:ext cx="172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80 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8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8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59280" y="2492280"/>
            <a:ext cx="1514160" cy="1435320"/>
            <a:chOff x="3059280" y="2492280"/>
            <a:chExt cx="1514160" cy="1435320"/>
          </a:xfrm>
        </p:grpSpPr>
        <p:sp>
          <p:nvSpPr>
            <p:cNvPr id="125" name=""/>
            <p:cNvSpPr/>
            <p:nvPr/>
          </p:nvSpPr>
          <p:spPr>
            <a:xfrm>
              <a:off x="3059280" y="2492280"/>
              <a:ext cx="1514160" cy="14353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03720" y="351612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3840" y="2862000"/>
              <a:ext cx="36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2120" y="3516120"/>
              <a:ext cx="2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7200" y="3271320"/>
              <a:ext cx="777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6200" y="3271320"/>
              <a:ext cx="0" cy="65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5760" y="1916280"/>
            <a:ext cx="71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ar is travelling at 50 mph. how far will it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fter 3 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85264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21000"/>
            <a:ext cx="23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50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1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150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19280" y="3284640"/>
            <a:ext cx="2019240" cy="1800000"/>
            <a:chOff x="1619280" y="3284640"/>
            <a:chExt cx="2019240" cy="1800000"/>
          </a:xfrm>
        </p:grpSpPr>
        <p:sp>
          <p:nvSpPr>
            <p:cNvPr id="143" name=""/>
            <p:cNvSpPr/>
            <p:nvPr/>
          </p:nvSpPr>
          <p:spPr>
            <a:xfrm>
              <a:off x="1619280" y="3284640"/>
              <a:ext cx="2019240" cy="1800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44000" y="4568760"/>
              <a:ext cx="38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5720" y="3748320"/>
              <a:ext cx="4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6760" y="4568760"/>
              <a:ext cx="37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09960" y="4261320"/>
              <a:ext cx="103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2080" y="4261320"/>
              <a:ext cx="0" cy="82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9440" y="1916280"/>
            <a:ext cx="75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arah travels to school by bike at an average sp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f 12 mph   how far  is the school if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 hours to get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221000"/>
            <a:ext cx="143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4221000"/>
            <a:ext cx="23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S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12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= 2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 24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5661000"/>
            <a:ext cx="1081080" cy="1027440"/>
            <a:chOff x="0" y="5661000"/>
            <a:chExt cx="1081080" cy="1027440"/>
          </a:xfrm>
        </p:grpSpPr>
        <p:sp>
          <p:nvSpPr>
            <p:cNvPr id="161" name=""/>
            <p:cNvSpPr/>
            <p:nvPr/>
          </p:nvSpPr>
          <p:spPr>
            <a:xfrm>
              <a:off x="0" y="566100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600" y="638136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9680" y="5920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200" y="638136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800" y="6208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320" y="6208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95672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69236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ou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9T20:42:24Z</dcterms:modified>
  <cp:revision>15</cp:revision>
  <dc:subject/>
  <dc:title>Slide 1</dc:title>
</cp:coreProperties>
</file>